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2DA-D139-445A-9EFF-D8F34AE9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1FE-0C9D-449B-B7AB-B71C4ED1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89C-9C3E-45C4-A308-810ADAC4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76F-78F1-4C46-9E1E-3CF3468B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A80-D8DB-49A2-AD8F-63A6E0F5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7C1-86F8-4EA3-8BCF-0A41AFAD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46A-A434-413C-998A-267EED4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633-53BB-467D-8DF8-EED327B1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0EC-8DC1-4C4C-8C9E-461F2A11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4FC-33C3-40D0-95A7-56372F7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019-7D21-4188-A639-B2396F5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B48-0A73-49D6-BB56-B9DE2345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四無忌憚  五動人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3A93-CBB0-40CD-9549-BA12DED14AF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&lt;&#36914;&#38542;&#38988;,&#27599;&#38988;&#31572;&#23565;&#21508;&#24471;30&#20998;&gt;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&#31572;&#23565;&#24471;15&#20998;&gt;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&lt;&#36914;&#38542;&#38988;,&#27599;&#38988;&#31572;&#23565;&#21508;&#24471;30&#20998;&gt;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zh-TW" sz="6000" spc="-1" strike="noStrike">
                <a:solidFill>
                  <a:srgbClr val="ff9900"/>
                </a:solidFill>
                <a:latin typeface="Arial"/>
              </a:rPr>
              <a:t>四”無忌憚 </a:t>
            </a:r>
            <a:br>
              <a:rPr sz="6000"/>
            </a:br>
            <a:r>
              <a:rPr b="0" lang="zh-TW" sz="6000" spc="-1" strike="noStrike">
                <a:solidFill>
                  <a:srgbClr val="ff9900"/>
                </a:solidFill>
                <a:latin typeface="Arial"/>
              </a:rPr>
              <a:t>“五”動人生</a:t>
            </a:r>
            <a:endParaRPr b="0" lang="en-US" sz="6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78900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~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慶祝環境資訊電子報五週年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台灣環境資訊協會四週年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398520" cy="43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4720" y="18108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TW" sz="1600" spc="-1" strike="noStrike">
                <a:solidFill>
                  <a:srgbClr val="7dc4c9"/>
                </a:solidFill>
                <a:latin typeface="Verdana"/>
                <a:ea typeface="標楷體"/>
              </a:rPr>
              <a:t>社團法人台灣環境資訊協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70E-B013-4FE5-B848-CF3F2495BE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進階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8000"/>
                </a:solidFill>
                <a:latin typeface="Arial"/>
              </a:rPr>
              <a:t>請從環境資訊電子報歷任主編或編輯中</a:t>
            </a:r>
            <a:r>
              <a:rPr b="0" lang="zh-TW" sz="4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8000"/>
                </a:solidFill>
                <a:latin typeface="Arial"/>
              </a:rPr>
              <a:t>區分出同年級同學</a:t>
            </a:r>
            <a:r>
              <a:rPr b="0" lang="zh-TW" sz="44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答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五年級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陳瑞賓、朱惟君、高美鈴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六年級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鄭百評、孫秀如、唐炘炘、夏道緣、江嘉萍、彭瑞祥、李家淳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瑞玉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、謝洵怡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回進階題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247-8CEF-45BE-9E6B-EBDC710F0E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你得幾分呢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32135" t="9374" r="5790" b="0"/>
          <a:stretch/>
        </p:blipFill>
        <p:spPr>
          <a:xfrm>
            <a:off x="6588000" y="3645000"/>
            <a:ext cx="190656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0" t="0" r="8654" b="0"/>
          <a:stretch/>
        </p:blipFill>
        <p:spPr>
          <a:xfrm>
            <a:off x="3492360" y="2708280"/>
            <a:ext cx="2664000" cy="2187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16720" y="573408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理事長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哪ㄟㄚ呢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rcRect l="0" t="18374" r="52990" b="9925"/>
          <a:stretch/>
        </p:blipFill>
        <p:spPr>
          <a:xfrm>
            <a:off x="468360" y="1989000"/>
            <a:ext cx="258120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588000" y="2924280"/>
            <a:ext cx="24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3300"/>
                </a:solidFill>
                <a:latin typeface="Arial"/>
              </a:rPr>
              <a:t>60</a:t>
            </a:r>
            <a:r>
              <a:rPr b="1" lang="zh-TW" sz="4000" spc="-1" strike="noStrike">
                <a:solidFill>
                  <a:srgbClr val="cc3300"/>
                </a:solidFill>
                <a:latin typeface="Arial"/>
              </a:rPr>
              <a:t>分以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8000" y="1989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3300"/>
                </a:solidFill>
                <a:latin typeface="Arial"/>
              </a:rPr>
              <a:t>60</a:t>
            </a:r>
            <a:r>
              <a:rPr b="1" lang="zh-TW" sz="4000" spc="-1" strike="noStrike">
                <a:solidFill>
                  <a:srgbClr val="cc3300"/>
                </a:solidFill>
                <a:latin typeface="Arial"/>
              </a:rPr>
              <a:t>分</a:t>
            </a:r>
            <a:r>
              <a:rPr b="1" lang="zh-TW" sz="4000" spc="-1" strike="noStrike">
                <a:solidFill>
                  <a:srgbClr val="cc3300"/>
                </a:solidFill>
                <a:latin typeface="Arial"/>
              </a:rPr>
              <a:t>~100</a:t>
            </a:r>
            <a:r>
              <a:rPr b="1" lang="zh-TW" sz="4000" spc="-1" strike="noStrike">
                <a:solidFill>
                  <a:srgbClr val="cc3300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494172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秘書長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還不錯啦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但是偶們還要更好喔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34136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3300"/>
                </a:solidFill>
                <a:latin typeface="Arial"/>
              </a:rPr>
              <a:t>100</a:t>
            </a:r>
            <a:r>
              <a:rPr b="1" lang="zh-TW" sz="4000" spc="-1" strike="noStrike">
                <a:solidFill>
                  <a:srgbClr val="cc3300"/>
                </a:solidFill>
                <a:latin typeface="Arial"/>
              </a:rPr>
              <a:t>分以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0133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理事長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嗯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表現很好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要給點獎勵喔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BE1-6894-406B-9465-B6FB60B6AF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0" t="0" r="0" b="12861"/>
          <a:stretch/>
        </p:blipFill>
        <p:spPr>
          <a:xfrm>
            <a:off x="826920" y="4292640"/>
            <a:ext cx="3457800" cy="2260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關於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e-info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732720" y="692280"/>
            <a:ext cx="1985760" cy="1490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rcRect l="0" t="0" r="0" b="17707"/>
          <a:stretch/>
        </p:blipFill>
        <p:spPr>
          <a:xfrm>
            <a:off x="0" y="2060640"/>
            <a:ext cx="3529080" cy="217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564000" y="32130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rcRect l="0" t="31285" r="0" b="0"/>
          <a:stretch/>
        </p:blipFill>
        <p:spPr>
          <a:xfrm>
            <a:off x="4211640" y="4483080"/>
            <a:ext cx="4608360" cy="237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rcRect l="0" t="8654" r="2924" b="0"/>
          <a:stretch/>
        </p:blipFill>
        <p:spPr>
          <a:xfrm>
            <a:off x="5076720" y="2205000"/>
            <a:ext cx="3635640" cy="227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3492360" y="1628640"/>
            <a:ext cx="1987560" cy="149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28F-0D5A-423B-8826-166090E48B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公元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2000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年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~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創世紀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Y2K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危害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末日到來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網路正熱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環境資訊電子報於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4/15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於網路第一次現身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籌備台灣環境資訊協會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人員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兩個工作人員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+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數個神龍見首不見尾的志工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地點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配備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資金來源</a:t>
            </a:r>
            <a:r>
              <a:rPr b="0" lang="zh-TW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67164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324-73E0-43FD-89B2-15B26FE92E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公元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2001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年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環境資訊電子報總編輯朱惟君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與南方電子報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崔媽媽基金會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合作推出共用訊息託播活動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9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月參與南非地球高峰會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月首度推出”環境資訊年鑑”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------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4038840" cy="235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716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5/15</a:t>
            </a:r>
            <a:r>
              <a:rPr b="0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台灣環境資訊協會正式通過內政部立案</a:t>
            </a:r>
            <a:r>
              <a:rPr b="0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,</a:t>
            </a:r>
            <a:r>
              <a:rPr b="0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成為第一個以推廣環境資訊為宗旨的環保團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第一任理事長為盧道杰老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72F-82E1-4BC2-8926-4B310E8CFE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公元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2002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年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環境資訊電子報總編輯鄭百評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推出地球日電子報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快樂動物電子報至今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與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Taiwan News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合作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每週推出國內外重大環境新聞回顧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月以”珍愛台灣 從環境資訊年鑑做起”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獲福特環保獎補助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------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8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月台灣環境資訊協會增設行銷企畫部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8000"/>
                </a:solidFill>
                <a:latin typeface="Arial"/>
              </a:rPr>
              <a:t>負責提案與合作洽談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B24-FA67-45FD-B54E-4FE426DF6E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公元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2003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年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環境資訊電子報總編輯孫秀如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持續與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Taiwan News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合作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每週推出國內外重大環境新聞回顧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出版”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2002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環境資訊年鑑”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並邀時任環保署署長郝龍斌作序推薦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月參與南非世界保護區大會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WPC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國際會議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月環境資訊電子報副刊由志工高美鈴接手至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2005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年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A0D-D4AD-41F3-B67C-47AE6437E3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公元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2004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年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~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起飛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環境資訊電子報總編輯唐炘炘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環境資訊中心瀏覽人次每日超過八千人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完成讀者訂戶系統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10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月參與捷克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Student Forum 2000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國際會議 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出版”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2003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環境資訊年鑑”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獲行政院政務委員葉俊榮及主婦聯盟董事長陳曼麗作序推薦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------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獲頒第一屆行政院永續獎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第二屆理監事就任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理事長為李永展老師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9/1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搬遷至艋舺大道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開始”自立門戶”的生活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辦理全台第一次生態工作假期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朝向推動環境信託的工作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又邁進了一步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1251" t="1915" r="7871" b="7370"/>
          <a:stretch/>
        </p:blipFill>
        <p:spPr>
          <a:xfrm>
            <a:off x="5824440" y="3429000"/>
            <a:ext cx="3319560" cy="27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E21-455F-4ECB-92EF-43DF04BC37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公元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2005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年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環境資訊電子報邁向第五個年頭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環境資訊中心收錄圖文資料已超過五萬筆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與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Taiwan News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合作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每週推出環境新聞評論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已協助約廿個網站規畫與維護執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近十個大型資料庫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八項受委託調查與研究計畫等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------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台灣環境資訊協會邁入第四年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C0E-1AFF-4645-911E-A38B5F6B28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五歲環境資訊電子報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,</a:t>
            </a:r>
            <a:br>
              <a:rPr sz="4000"/>
            </a:b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將繼續舞動你的人生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一個為由非營利組織獨立經營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專為環境發聲的網路媒體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一份放眼國際及兩岸觀點的媒體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一群以高素質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高熱忱志工投入為主的編採群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五歲心願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一個已經堅持五年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還打算繼續堅持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個五年的電子報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DA9-875F-4F31-812F-10637421D0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9900"/>
                </a:solidFill>
                <a:latin typeface="標楷體"/>
                <a:ea typeface="標楷體"/>
              </a:rPr>
              <a:t>對於環境資訊</a:t>
            </a:r>
            <a:r>
              <a:rPr b="0" lang="zh-TW" sz="4800" spc="-1" strike="noStrike">
                <a:solidFill>
                  <a:srgbClr val="ff9900"/>
                </a:solidFill>
                <a:latin typeface="標楷體"/>
                <a:ea typeface="標楷體"/>
              </a:rPr>
              <a:t>,</a:t>
            </a:r>
            <a:r>
              <a:rPr b="0" lang="zh-TW" sz="4800" spc="-1" strike="noStrike">
                <a:solidFill>
                  <a:srgbClr val="ff9900"/>
                </a:solidFill>
                <a:latin typeface="標楷體"/>
                <a:ea typeface="標楷體"/>
              </a:rPr>
              <a:t>你知道多少</a:t>
            </a:r>
            <a:r>
              <a:rPr b="0" lang="zh-TW" sz="4800" spc="-1" strike="noStrike">
                <a:solidFill>
                  <a:srgbClr val="ff9900"/>
                </a:solidFill>
                <a:latin typeface="標楷體"/>
                <a:ea typeface="標楷體"/>
              </a:rPr>
              <a:t>?</a:t>
            </a:r>
            <a:endParaRPr b="0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1700280"/>
            <a:ext cx="5040360" cy="3024000"/>
          </a:xfrm>
          <a:prstGeom prst="cloudCallout">
            <a:avLst>
              <a:gd name="adj1" fmla="val -66472"/>
              <a:gd name="adj2" fmla="val 40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51280" y="2205000"/>
            <a:ext cx="403848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500" spc="-1" strike="noStrike">
                <a:solidFill>
                  <a:srgbClr val="009900"/>
                </a:solidFill>
                <a:latin typeface="標楷體"/>
                <a:ea typeface="標楷體"/>
              </a:rPr>
              <a:t>不管你跟”它”有多熟</a:t>
            </a:r>
            <a:r>
              <a:rPr b="0" i="1" lang="zh-TW" sz="2500" spc="-1" strike="noStrike">
                <a:solidFill>
                  <a:srgbClr val="009900"/>
                </a:solidFill>
                <a:latin typeface="標楷體"/>
                <a:ea typeface="標楷體"/>
              </a:rPr>
              <a:t>,</a:t>
            </a:r>
            <a:endParaRPr b="0" lang="en-US" sz="25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500" spc="-1" strike="noStrike">
                <a:solidFill>
                  <a:srgbClr val="009900"/>
                </a:solidFill>
                <a:latin typeface="標楷體"/>
                <a:ea typeface="標楷體"/>
              </a:rPr>
              <a:t>人生海海</a:t>
            </a:r>
            <a:r>
              <a:rPr b="0" i="1" lang="zh-TW" sz="2500" spc="-1" strike="noStrike">
                <a:solidFill>
                  <a:srgbClr val="009900"/>
                </a:solidFill>
                <a:latin typeface="標楷體"/>
                <a:ea typeface="標楷體"/>
              </a:rPr>
              <a:t>,</a:t>
            </a:r>
            <a:endParaRPr b="0" lang="en-US" sz="25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500" spc="-1" strike="noStrike">
                <a:solidFill>
                  <a:srgbClr val="009900"/>
                </a:solidFill>
                <a:latin typeface="標楷體"/>
                <a:ea typeface="標楷體"/>
              </a:rPr>
              <a:t>有些事</a:t>
            </a:r>
            <a:r>
              <a:rPr b="0" i="1" lang="zh-TW" sz="2500" spc="-1" strike="noStrike">
                <a:solidFill>
                  <a:srgbClr val="009900"/>
                </a:solidFill>
                <a:latin typeface="標楷體"/>
                <a:ea typeface="標楷體"/>
              </a:rPr>
              <a:t>,</a:t>
            </a:r>
            <a:r>
              <a:rPr b="0" i="1" lang="zh-TW" sz="2500" spc="-1" strike="noStrike">
                <a:solidFill>
                  <a:srgbClr val="009900"/>
                </a:solidFill>
                <a:latin typeface="標楷體"/>
                <a:ea typeface="標楷體"/>
              </a:rPr>
              <a:t>你一定不</a:t>
            </a:r>
            <a:r>
              <a:rPr b="0" i="1" lang="zh-TW" sz="2500" spc="-1" strike="noStrike">
                <a:solidFill>
                  <a:srgbClr val="009900"/>
                </a:solidFill>
                <a:latin typeface="標楷體"/>
              </a:rPr>
              <a:t>能</a:t>
            </a:r>
            <a:r>
              <a:rPr b="0" i="1" lang="zh-TW" sz="2500" spc="-1" strike="noStrike">
                <a:solidFill>
                  <a:srgbClr val="009900"/>
                </a:solidFill>
                <a:latin typeface="標楷體"/>
                <a:ea typeface="標楷體"/>
              </a:rPr>
              <a:t>不知道</a:t>
            </a:r>
            <a:r>
              <a:rPr b="0" i="1" lang="zh-TW" sz="2500" spc="-1" strike="noStrike">
                <a:solidFill>
                  <a:srgbClr val="009900"/>
                </a:solidFill>
                <a:latin typeface="標楷體"/>
                <a:ea typeface="標楷體"/>
              </a:rPr>
              <a:t>! </a:t>
            </a:r>
            <a:endParaRPr b="0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7A2-0991-4E9F-AE36-F7AFD1FE25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台灣環境資訊協會成立四年</a:t>
            </a:r>
            <a:br>
              <a:rPr sz="4000"/>
            </a:b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“四”無忌憚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一個推動環境資訊公開普及與環境信託的民間社團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一個結合媒體與環保角色的第三部門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一個非營利組織的資訊夥伴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四歲心願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一個為堅持理想初衷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伸張第四權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而肆無忌憚的組織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4D2-5CD1-470E-977D-1B1086E93F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914920" cy="218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2276640"/>
            <a:ext cx="5111640" cy="3600360"/>
          </a:xfrm>
          <a:prstGeom prst="wedgeEllipseCallout">
            <a:avLst>
              <a:gd name="adj1" fmla="val -55620"/>
              <a:gd name="adj2" fmla="val -41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遊戲規則說明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79640" y="314172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分為基本題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(2),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時事題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(2),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每題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15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進階題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(3),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一題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30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送分題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(2),</a:t>
            </a: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由評審給分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9FF-ED6C-4486-9DB4-30D3129D6B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對於環境資訊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你知道多少</a:t>
            </a:r>
            <a:br>
              <a:rPr sz="4000"/>
            </a:b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基本題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每題各得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15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分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環境資訊電子報是什麼星座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台灣環境資訊協會的生肖是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提示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今年是雞年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8C9-A7EF-42D7-8C0E-1B52162189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對於環境資訊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你知道多少</a:t>
            </a:r>
            <a:br>
              <a:rPr sz="4000"/>
            </a:b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時事題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答對得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15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分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請說出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15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日，環境資訊電子報的主題是什麼？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看答案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4/22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日誰的生日</a:t>
            </a: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41B-41FA-4121-8666-7173317AA0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對於環境資訊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你知道多少</a:t>
            </a:r>
            <a:br>
              <a:rPr sz="4000"/>
            </a:b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進階題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每題答對各得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30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分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電子報的發報機制曾經過那些變化？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看答案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請從環境資訊電子報歷任主編或編輯中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區分出同年級同學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陳瑞賓、謝洵怡、朱惟君、鄭百評、孫秀如、唐炘炘、夏道緣、江嘉萍、彭瑞祥、李家淳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瑞玉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、高美鈴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             </a:t>
            </a:r>
            <a:r>
              <a:rPr b="0" lang="zh-TW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看答案</a:t>
            </a:r>
            <a:r>
              <a:rPr b="0" lang="zh-TW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環境資訊電子報自創刊號起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共出了幾期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A9F-52E5-4DEC-920F-037DEE34D5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對於環境資訊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你知道多少</a:t>
            </a:r>
            <a:br>
              <a:rPr sz="4000"/>
            </a:b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送分題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由評審決定分數</a:t>
            </a:r>
            <a:r>
              <a:rPr b="0" lang="zh-TW" sz="4000" spc="-1" strike="noStrike">
                <a:solidFill>
                  <a:srgbClr val="ff99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008000"/>
                </a:solidFill>
                <a:latin typeface="Arial"/>
              </a:rPr>
              <a:t>你認為環境資訊電子報最棒的內容是什麼？</a:t>
            </a:r>
            <a:endParaRPr b="0" lang="en-US" sz="46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008000"/>
                </a:solidFill>
                <a:latin typeface="Arial"/>
              </a:rPr>
              <a:t>請說一則曾在週末副刊上讀過的動物笑話</a:t>
            </a:r>
            <a:r>
              <a:rPr b="0" lang="zh-TW" sz="46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lang="zh-TW" sz="4600" spc="-1" strike="noStrike">
                <a:solidFill>
                  <a:srgbClr val="008000"/>
                </a:solidFill>
                <a:latin typeface="Arial"/>
              </a:rPr>
              <a:t>要講得好笑才算</a:t>
            </a:r>
            <a:r>
              <a:rPr b="0" lang="zh-TW" sz="4600" spc="-1" strike="noStrike">
                <a:solidFill>
                  <a:srgbClr val="008000"/>
                </a:solidFill>
                <a:latin typeface="Arial"/>
              </a:rPr>
              <a:t>)!</a:t>
            </a:r>
            <a:endParaRPr b="0" lang="en-US" sz="46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6F0-8F4D-4218-9243-C2B39F7A8A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9900"/>
                </a:solidFill>
                <a:latin typeface="Arial"/>
              </a:rPr>
              <a:t>時事</a:t>
            </a:r>
            <a:r>
              <a:rPr b="0" lang="zh-TW" sz="6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8000"/>
                </a:solidFill>
                <a:latin typeface="Arial"/>
              </a:rPr>
              <a:t>請說出</a:t>
            </a:r>
            <a:r>
              <a:rPr b="0" lang="zh-TW" sz="44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zh-TW" sz="4400" spc="-1" strike="noStrike">
                <a:solidFill>
                  <a:srgbClr val="008000"/>
                </a:solidFill>
                <a:latin typeface="Arial"/>
              </a:rPr>
              <a:t>月</a:t>
            </a:r>
            <a:r>
              <a:rPr b="0" lang="zh-TW" sz="4400" spc="-1" strike="noStrike">
                <a:solidFill>
                  <a:srgbClr val="008000"/>
                </a:solidFill>
                <a:latin typeface="Arial"/>
              </a:rPr>
              <a:t>15</a:t>
            </a:r>
            <a:r>
              <a:rPr b="0" lang="zh-TW" sz="4400" spc="-1" strike="noStrike">
                <a:solidFill>
                  <a:srgbClr val="008000"/>
                </a:solidFill>
                <a:latin typeface="Arial"/>
              </a:rPr>
              <a:t>日，環境資訊電子報的本日主題是什麼？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Arial"/>
              </a:rPr>
              <a:t>答：保護臭氧層的氣體經發現會提高地球溫度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64680" y="501336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回時事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912-E0C5-4A7D-81A1-A993CD1EAC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進階</a:t>
            </a:r>
            <a:r>
              <a:rPr b="0" lang="zh-TW" sz="44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電子報的發報機制曾經過那些變化？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</a:rPr>
              <a:t>答：最早是用數據機，後來台大資訊系高成炎教授提供伺服器，吳柏旻先生協助建置發報系統，歷經高英勛先生改善才完成。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回進階題</a:t>
            </a:r>
            <a:endParaRPr b="0" lang="en-US" sz="1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0" t="0" r="55711" b="0"/>
          <a:stretch/>
        </p:blipFill>
        <p:spPr>
          <a:xfrm>
            <a:off x="6732720" y="2997360"/>
            <a:ext cx="1582560" cy="26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電子報五週年慶感言募集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01D-DED3-4B0A-B1B9-5FFD28B4F2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4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3:47:59Z</dcterms:created>
  <dc:creator>王美惠</dc:creator>
  <dc:description/>
  <dc:language>en-US</dc:language>
  <cp:lastModifiedBy>Sharlin</cp:lastModifiedBy>
  <dcterms:modified xsi:type="dcterms:W3CDTF">2005-04-15T20:18:50Z</dcterms:modified>
  <cp:revision>25</cp:revision>
  <dc:subject/>
  <dc:title>非營利組織資訊交流平台擴充及維護管理</dc:title>
</cp:coreProperties>
</file>